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7C1-7D83-46B5-84D2-27A853D5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4A3-BEB7-425C-81ED-0D4CEDE5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303-1CBF-48A5-95AA-23A9178C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8C4-421A-4615-9A4A-A2156AD8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4D0-98E7-4B5B-A1E8-9B9EA43E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3CD5-79BA-4913-AE90-5EF0CFAB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F022-2601-4EB6-BC72-5229E30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B36E-ABEF-4E9F-8C9E-C70466B8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BCD0-E154-429D-B891-86356020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6C72-8E57-4813-9FBF-3EBA83FF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371-F555-420E-822F-C8396E2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9EF-E412-492A-863C-E4CA9538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5E98-2A7E-4FC3-908D-202E120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E33D-16CC-4EE3-A2DA-01DB70C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F023-FC66-4E23-85EE-3ABC16E3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3F62-092F-471E-94F8-C25BA84F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D968-F047-4A5B-B0B7-EA47CA00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295-55DD-4C67-8751-29ADCDD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1B9-8ADB-491B-9ECE-8337FBF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6C0-4419-4FAA-A360-E0019623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E7D-F391-4319-81A4-7EEF4C0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234-AD7A-4F24-A51D-B1A133F8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51E-F65A-495C-A47D-643F6D4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139-4B76-4E2C-B2DE-93D6861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3672-B642-45D2-AD15-8E4580216D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C16-0C83-4667-A1EA-2C948F06A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6.xml"/><Relationship Id="rId8" Type="http://schemas.openxmlformats.org/officeDocument/2006/relationships/slide" Target="slide11.xml"/><Relationship Id="rId9" Type="http://schemas.openxmlformats.org/officeDocument/2006/relationships/slide" Target="slide31.xml"/><Relationship Id="rId10" Type="http://schemas.openxmlformats.org/officeDocument/2006/relationships/slide" Target="slide21.xml"/><Relationship Id="rId11" Type="http://schemas.openxmlformats.org/officeDocument/2006/relationships/slide" Target="slide41.xml"/><Relationship Id="rId12" Type="http://schemas.openxmlformats.org/officeDocument/2006/relationships/slide" Target="slide13.xml"/><Relationship Id="rId13" Type="http://schemas.openxmlformats.org/officeDocument/2006/relationships/slide" Target="slide23.xml"/><Relationship Id="rId14" Type="http://schemas.openxmlformats.org/officeDocument/2006/relationships/slide" Target="slide33.xml"/><Relationship Id="rId15" Type="http://schemas.openxmlformats.org/officeDocument/2006/relationships/slide" Target="slide23.xml"/><Relationship Id="rId16" Type="http://schemas.openxmlformats.org/officeDocument/2006/relationships/slide" Target="slide15.xml"/><Relationship Id="rId17" Type="http://schemas.openxmlformats.org/officeDocument/2006/relationships/slide" Target="slide25.xml"/><Relationship Id="rId18" Type="http://schemas.openxmlformats.org/officeDocument/2006/relationships/slide" Target="slide35.xml"/><Relationship Id="rId19" Type="http://schemas.openxmlformats.org/officeDocument/2006/relationships/slide" Target="slide44.xml"/><Relationship Id="rId20" Type="http://schemas.openxmlformats.org/officeDocument/2006/relationships/slide" Target="slide17.xml"/><Relationship Id="rId21" Type="http://schemas.openxmlformats.org/officeDocument/2006/relationships/slide" Target="slide27.xml"/><Relationship Id="rId22" Type="http://schemas.openxmlformats.org/officeDocument/2006/relationships/slide" Target="slide37.xml"/><Relationship Id="rId23" Type="http://schemas.openxmlformats.org/officeDocument/2006/relationships/slide" Target="slide46.xml"/><Relationship Id="rId24" Type="http://schemas.openxmlformats.org/officeDocument/2006/relationships/slide" Target="slide19.xml"/><Relationship Id="rId25" Type="http://schemas.openxmlformats.org/officeDocument/2006/relationships/slide" Target="slide29.xml"/><Relationship Id="rId26" Type="http://schemas.openxmlformats.org/officeDocument/2006/relationships/slide" Target="slide39.xml"/><Relationship Id="rId27" Type="http://schemas.openxmlformats.org/officeDocument/2006/relationships/slide" Target="slide48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Rockwell Extra Bold"/>
              </a:rPr>
              <a:t>Revolutionary War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Rockwell Extra Bold"/>
              </a:rPr>
              <a:t> Review Jeopard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8782200" y="4351320"/>
          <a:ext cx="774396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782200" y="4351320"/>
                    <a:ext cx="774396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400" y="144792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38080" y="16002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??????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Batt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W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447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Peo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467480" cy="41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15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90720" y="2735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24382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is battle in New Jersey, Washington lead an attack on retreating British troop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43360" y="2209680"/>
            <a:ext cx="644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Monmou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7080" y="25909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attle was considered a turning point in the war, because the colonists’ victory convin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ance to join the war eff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10160" y="2971800"/>
            <a:ext cx="58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Saratog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2590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battle the British surrendered to the Colonial Army (with the help of the French), ending the Revolutionary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061720" y="304812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Yorktow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2743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93240" y="3168720"/>
            <a:ext cx="681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Colonists lost this battl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of the British thought the wa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soon be 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93240" y="31687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New Yor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828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urprise attack on the Hessians on Christmas Day, this battle raised the hopes and morale of the Colonial A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21337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52480" y="1143000"/>
            <a:ext cx="6166080" cy="5448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38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4320" y="31687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Trent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44440" y="2819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36232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is extensive military training and ability to inspire the troops, the colonial general led the army throughout the entire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89280" y="3168720"/>
            <a:ext cx="47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66680" y="19810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n for his lavish lifestyle, this British general was defeated at the Battle of Saratoga, which proved to be a turning point in the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Gentleman Johnny Burgoy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76520" y="21337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2096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lonist wrote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Crisis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helped to inspire the colonial army to keep fighting, even if times were t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89280" y="316872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omas Pa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66680" y="26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21337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1337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British General surrendered at the Battle of Yorktown, which effectively ended the war and gave the colonists their freed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1440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971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Cornwall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47920" y="2336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362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itish general captured New Y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28800" y="2438280"/>
            <a:ext cx="582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 and Pennsylvan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97800" y="2666880"/>
            <a:ext cx="48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General Ho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6668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21337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ocument ended the Revolutionary War, giving the Colonists their freedom and removing Great Britain’s claim to much of its land in North Americ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28800" y="334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14400" y="2666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used his own money to buy warm clothes for the soldiers at Valley Fo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0512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was Lafayet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81080" y="2209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2865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22860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lonial army spent a brutal winter camping in this Pennsylvania tow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048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Valley For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09480" y="3017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2362320"/>
            <a:ext cx="586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ussia military leader came to Valley Forge and continually drilled the American soldi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23623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2666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Baron Von Steuben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89280" y="2590920"/>
            <a:ext cx="62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22096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21337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1776, George Washington changed his strategy and decided it would be best to fight this type of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89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371600" y="1413000"/>
            <a:ext cx="6934320" cy="5178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718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438280"/>
            <a:ext cx="5331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2438280"/>
            <a:ext cx="533160" cy="1067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2133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defensiv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11280" y="28195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l trained soldiers, powerful navy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od amount of suppli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061720" y="2971800"/>
            <a:ext cx="51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dvantages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ish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81080" y="266688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spiring and well trained military leader, secret aid from the Fre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981080" y="26668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nspiring and well trained military leader, secret aid from the Fre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93600" y="3168720"/>
            <a:ext cx="52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dvantages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st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638680" y="3581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13372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frican Americans joined the Colonist’s Army with the hope that American Independence would end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33720" y="2743200"/>
            <a:ext cx="399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ave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47680" y="2438280"/>
            <a:ext cx="7642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warfare helped the coloni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n significant victories in the So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14360" y="312408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Guerrilla Warfa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51160" y="220968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outh Carol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Massachuset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7240" y="2666880"/>
            <a:ext cx="8730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se are the times that try men’s soul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summer soldier and the sunshine patriot, wi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crisis, shrink from the service of their country.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From T. Paine’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he Cri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TRANSLATE INTO YOUR OWN WORDS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PLEASE BE SPECIFIC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371600" y="1413000"/>
            <a:ext cx="6934320" cy="5178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150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ew York and Georg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43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259092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467480" cy="4119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150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49496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362320"/>
            <a:ext cx="557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sia, Africa and South Ame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roperty of</cp:lastModifiedBy>
  <dcterms:modified xsi:type="dcterms:W3CDTF">2010-12-20T14:23:47Z</dcterms:modified>
  <cp:revision>89</cp:revision>
  <dc:subject/>
  <dc:title>Jeopardy</dc:title>
</cp:coreProperties>
</file>